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4D0D4-10B8-4390-B4E8-4538F212A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97365-FCF0-47F7-8A84-67FB210BA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9E874-6F97-4F8B-B8CC-A4CCC63FC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828D8-CA7A-4A97-A323-3911FB03C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1BD6F-72AA-462B-BB47-8487006C7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4BB0C-2AEF-41D5-9018-7BC2F533D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50C9-5E05-4194-8B6B-9A335EB2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50E5-7AE9-464F-B89E-1FF1E2B9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B4652-65FC-4287-89BC-7AC87209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5F42-D380-47A4-AFE7-DBA96043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C2D1-7F30-4360-A86B-C9C33403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009C-E358-4D56-83AD-0B0DB8D66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4320-D32D-4520-A6AD-18A0E4212EF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1000"/>
            <a:ext cx="7772400" cy="33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Factors Affecting Rates Of Resource Us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velopmen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level of development</a:t>
            </a:r>
            <a:r>
              <a:rPr b="0" lang="en-US" sz="3000" spc="-1" strike="noStrike">
                <a:solidFill>
                  <a:srgbClr val="000000"/>
                </a:solidFill>
                <a:latin typeface="Calibri"/>
              </a:rPr>
              <a:t> that a country has reached can directly affect which natural resources they use, and how.</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ss developed countries</a:t>
            </a:r>
            <a:r>
              <a:rPr b="0" lang="en-US" sz="3000" spc="-1" strike="noStrike">
                <a:solidFill>
                  <a:srgbClr val="000000"/>
                </a:solidFill>
                <a:latin typeface="Calibri"/>
              </a:rPr>
              <a:t>, where primary industries still dominate, don't consume a great deal of energy resources compared to more developed countri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y do exploit other natural resources in order to try to gain more money and begin on the path to economic develop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xploit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xamples of this are the </a:t>
            </a:r>
            <a:r>
              <a:rPr b="1" lang="en-US" sz="3100" spc="-1" strike="noStrike">
                <a:solidFill>
                  <a:srgbClr val="000000"/>
                </a:solidFill>
                <a:latin typeface="Calibri"/>
              </a:rPr>
              <a:t>exploitation</a:t>
            </a:r>
            <a:r>
              <a:rPr b="0" lang="en-US" sz="3100" spc="-1" strike="noStrike">
                <a:solidFill>
                  <a:srgbClr val="000000"/>
                </a:solidFill>
                <a:latin typeface="Calibri"/>
              </a:rPr>
              <a:t> and </a:t>
            </a:r>
            <a:r>
              <a:rPr b="1" lang="en-US" sz="3100" spc="-1" strike="noStrike">
                <a:solidFill>
                  <a:srgbClr val="000000"/>
                </a:solidFill>
                <a:latin typeface="Calibri"/>
              </a:rPr>
              <a:t>cutting down</a:t>
            </a:r>
            <a:r>
              <a:rPr b="0" lang="en-US" sz="3100" spc="-1" strike="noStrike">
                <a:solidFill>
                  <a:srgbClr val="000000"/>
                </a:solidFill>
                <a:latin typeface="Calibri"/>
              </a:rPr>
              <a:t> of the tropical rainforests in Brazil.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people have seen the value of selling the trees to countries such as Japa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are also exploiting their natural mineral reserves, and exporting those abroad als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ome of the poorest nations do not have access to many </a:t>
            </a:r>
            <a:r>
              <a:rPr b="1" lang="en-US" sz="3100" spc="-1" strike="noStrike">
                <a:solidFill>
                  <a:srgbClr val="000000"/>
                </a:solidFill>
                <a:latin typeface="Calibri"/>
              </a:rPr>
              <a:t>natural resources</a:t>
            </a:r>
            <a:r>
              <a:rPr b="0" lang="en-US" sz="3100" spc="-1" strike="noStrike">
                <a:solidFill>
                  <a:srgbClr val="000000"/>
                </a:solidFill>
                <a:latin typeface="Calibri"/>
              </a:rPr>
              <a:t> but often will rely on one for the livelihood of the countr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dustrialis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that are more developed, and can be described as </a:t>
            </a:r>
            <a:r>
              <a:rPr b="1" lang="en-US" sz="3200" spc="-1" strike="noStrike">
                <a:solidFill>
                  <a:srgbClr val="000000"/>
                </a:solidFill>
                <a:latin typeface="Calibri"/>
              </a:rPr>
              <a:t>industrialised</a:t>
            </a:r>
            <a:r>
              <a:rPr b="0" lang="en-US" sz="3200" spc="-1" strike="noStrike">
                <a:solidFill>
                  <a:srgbClr val="000000"/>
                </a:solidFill>
                <a:latin typeface="Calibri"/>
              </a:rPr>
              <a:t>, are the primary consumers of most of the fossil fuel resource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industries require huge amounts of natural resources, which are often imported from the less developed count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Growth</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a:t>
            </a:r>
            <a:r>
              <a:rPr b="1" lang="en-US" sz="3100" spc="-1" strike="noStrike">
                <a:solidFill>
                  <a:srgbClr val="000000"/>
                </a:solidFill>
                <a:latin typeface="Calibri"/>
              </a:rPr>
              <a:t>population</a:t>
            </a:r>
            <a:r>
              <a:rPr b="0" lang="en-US" sz="3100" spc="-1" strike="noStrike">
                <a:solidFill>
                  <a:srgbClr val="000000"/>
                </a:solidFill>
                <a:latin typeface="Calibri"/>
              </a:rPr>
              <a:t> of the world is growing at an amazing rat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st year it reached 6 billion, having only passed 2 billion in 1927 and 4 billion in 1974.</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swift growth has put the resources of the world under pressur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ost of the major growth has occurred in developing countries in places like Africa, where the pressure on food resources is intens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 Growth</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UK has seen very little population growth over the past 25 years, meaning that we do not suffer the same problems that the countries of the developing world do, in terms of producing enough food for the population.</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lack of sufficient food places great pressure on the resources of that country, and means that if, as in Ethiopia in the 1980's, the harvest is poor because the rains fail, hundreds of thousands of people could starve to death.</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06:07Z</dcterms:created>
  <dc:creator>Dell_02</dc:creator>
  <dc:description/>
  <dc:language>en-US</dc:language>
  <cp:lastModifiedBy>Dell_02</cp:lastModifiedBy>
  <dcterms:modified xsi:type="dcterms:W3CDTF">2011-01-28T03:14:05Z</dcterms:modified>
  <cp:revision>1</cp:revision>
  <dc:subject/>
  <dc:title>Factors Affecting Rates Of Resource Use</dc:title>
</cp:coreProperties>
</file>